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F807-F55E-4509-A152-B05764A4C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486E-B043-478B-88DA-25056FD20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A98-BAEB-453F-AEFC-11F6F0FD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EFC-43EE-4939-9140-A6242ACF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B0F-1096-4D08-A139-A308EB2C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493-C80F-4CD6-AE13-7970B7EC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069B-07E2-4803-BCA9-108903EA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41EA-B251-4271-9FB7-E9EDADA2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3CEF-8160-4947-AB52-C3D818A6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D8F5-3A81-41DA-9A32-8D3FB0E6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79F2-6049-4055-9199-A90641BE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B74F-587E-4DAF-B192-A199F46D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39D0-E414-404D-82DD-55F0B023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080-72EC-43B2-8424-BEC9FCFC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BD7C-480F-49EE-9EB9-A05E7CE3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87C5-81D6-4074-88EE-7C9E202C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A587-9911-4B5D-96B6-82C97FD9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68D4-95F9-466E-A275-8A284F5B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B4D0-E178-4C52-A256-B0851C3C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BEFA-3E94-4E8B-97E6-6F54E367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ACCC-164D-493E-BF30-AD0BB196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61E9-5446-4EDA-9104-8F7A62AB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D5CF3-29F3-4B17-8B46-BFBA4DB2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4F17-512E-4428-9428-894E03CA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F26-7299-49D2-88CF-C46D8D7E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261E-01FF-4C07-9E37-1EAA225E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F11D-F3AB-49A7-9FA0-34862513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CF13-071A-49D5-A029-2228A1E1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DFA7-8C71-4ED2-8D30-3EED1922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62C07-BFDC-48CA-8DD7-F8434A20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F273-4040-447C-A82E-04D0FFD8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314D-E9F0-494C-A5ED-7220C93E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9D202-4DA6-4305-9F7C-5EDD17C9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1B721-BCF9-41B0-90EF-CF23DF30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ADE3-FA4A-4B2C-A449-FA4D47C9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1AE-7F05-4AC0-B28F-6AD315AA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80025-9788-4278-B5EA-54322830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6070-EACC-485A-8B2F-B0EA0DCD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3335F-FC36-42F0-9178-3216EF09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DCD32-543D-42B7-95DF-72C0273B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2136-801B-4B27-8694-FB61DAE0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D54A4-7EEE-4951-99BE-42146FFD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660C6-6D18-47A2-9446-19457640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C23A8-748F-4B2E-85D4-7686ABEA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75AB4-E1F5-4B31-9F3D-48E0328C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D8D-559B-4939-8B41-D9BFED49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43B-728B-4669-832C-E98B4880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9BE-D275-485A-8F62-3CAFB862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041-8099-4614-8194-81C695E5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233-15F4-417E-A6E4-BC7DB9DC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C7CE-00AE-4878-AD60-F86E64D88C9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2CF0-AE90-47FD-BD2A-B0E8C499AA5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C45B-E3C6-4A7F-AABE-43495E358D8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0284-F851-4F6D-9646-72CAA626CBC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17680" y="1371600"/>
            <a:ext cx="8480160" cy="2097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enny Cherr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enior Database Administrator / Architec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cherry@awarenesstech.co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VP, MCSA, MCDBA, MCTS, MCIT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rvice Broker Concep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milar to other queuing technolo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is processed using SEND and RECEIVE instead of SELECT and INSE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is sent as an XML data in a binary form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eues can be processed automatically or on dem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rvice Broker Concep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ssages can be sent within the database, to another database on the server, or to a database on a remote ser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livery is guaranteed, and in the order 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ssages are processed once and only once, in the order recei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ssages can range in size from single bytes to mega-bytes in size (max size of ~1GB per messag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ortant SSB Quer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sys.conversation_endpoi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sys.transmission_que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* from dbo.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QueueNa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mo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QL Server Web Si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microsoft.com/sq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itke.techtarget.com/sql-server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searchsqlserver.com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bit.ly/bDBcCE - Good SSB troubleshooting si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517680" y="1371600"/>
            <a:ext cx="8480160" cy="2322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1190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cherry@awarenesstech.co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itke.techtarget.com/sql-serv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874800" y="5473800"/>
            <a:ext cx="74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rate my presentations at http://speakerrate.com/mrd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2:13:26Z</dcterms:created>
  <dc:creator>Denny</dc:creator>
  <dc:description/>
  <dc:language>en-US</dc:language>
  <cp:lastModifiedBy>dcherry</cp:lastModifiedBy>
  <dcterms:modified xsi:type="dcterms:W3CDTF">2010-03-01T05:59:24Z</dcterms:modified>
  <cp:revision>27</cp:revision>
  <dc:subject/>
  <dc:title>SQL Server 2008 Resource Governor</dc:title>
</cp:coreProperties>
</file>